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C8F-44BC-46D4-A8B1-EB2EEE9620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B07-B765-4B9C-BCA0-8F3D70C24B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0A5-A861-47B4-98AF-248CB8686E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8ED-5A98-498B-B450-BB9066DA63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C6DA-9631-475F-B9D6-B16CC9746F1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E67-3871-402F-9275-F925E9F1B7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F8F-7620-4327-A4F8-722A692CC0A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BA2F-566C-4662-826C-EE593ED5AB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628-7372-4EB6-BB01-4DF857109A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D6A-EAAC-47A5-9ABD-757E5D6F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85A-0BB4-468A-8F15-7AC1E1A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9C4-A6FA-4CF3-A13C-54405204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7F0-3D27-4765-B295-2C5E4D08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5A89-CF1A-4707-A080-EBF270C9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E434-B9C3-46DD-897B-58E0962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21B6-09FE-4999-9C3B-7F5C559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6D0-628C-44BA-A5AD-14C8B3F4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23F1-DB9D-4EBE-9660-F64EB24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087-B78A-43D0-9FF6-F1A35D53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2FAB-643C-49DD-B5ED-AB28B57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1A7-F4BA-4FFE-B363-64CA1E2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288-12DB-4D9E-95C4-332E339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883-87F2-4C5C-B6D3-4F6D2F4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E124-D654-4908-B06F-E4802D4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145-D5A5-47CD-B46B-71FE73DB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7437-C670-47EF-945C-851A67C1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48A4-F51D-4AF2-9979-E2A226F4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E8B9-7E54-4FFE-9637-685B53A1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A0EB-B613-4379-830C-91908F3F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3068-AF85-4056-A026-8C02CEA6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A946-C552-429D-B7A0-674B0CEC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F0B-E7F2-4444-A4D9-352F1F2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09B8-3F8E-490E-BD43-A837E2B6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09AF-BC07-4AE8-ABAC-CE17F4E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7091-1324-4B45-A060-A650BA9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6A74-6145-49C2-B979-6C6F1C4E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3A32-D3B7-45E5-B5E3-50326B79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45A8-AD53-4851-9AF2-C5A639D5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59EB-7AE2-4ABB-B4A8-D3703F25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1B85-A984-4983-A290-B58E3230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6800-3702-4190-BC5A-F61D42C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F4F7-8D05-4BEA-A45E-067BC04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531-74AB-483F-8038-E1A79979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190C-5855-4418-9FE0-6C1BF5E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AC0C-3FEC-445C-B8D4-5AD6673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A094-BE6D-4602-9B97-38A1632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979B-01E0-4E8B-AE74-03ACE2D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46187-DC50-4450-AEC7-A20587C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9884-6CC2-4D2B-A839-9E57EDB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35145-F9C0-47C5-8E7A-7D785AF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A90A-30A7-45D6-AD1A-2683BC7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26A6-0E03-43B0-90BC-5C9E9193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627F-329F-4DA4-9F04-CF4C293C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28B-4E5C-4EB0-9802-D5F3566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92D3-357A-4FB2-8C9F-5029EAC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1770-F5A0-4095-9FC9-9F5FE64C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ABD2-474F-4767-A7C3-6EE0A07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2347-3929-4CD3-B183-418DFA5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90318-EE8C-4230-95A8-BD6632B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F7D3-F116-4EA5-AFC2-5A94848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32F4-F6B1-4E0B-9D82-0AE60E5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936B-F989-4320-A9FF-5294A5C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AC60-4AB0-4ACD-B4E4-48D2B6E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B0CE-377C-4BA3-8D11-E37552E2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8F8-D0FA-45D0-8E61-799FD54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DB0E-1F24-4719-BFBB-2EAC45C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E645-59D5-4029-9E12-A50450B9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5B68-2DDE-4743-9B90-C8AFB51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A572-7327-44D7-8BEF-6FEDB9E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0C34-1138-4F5E-B1BB-FCDF829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C716-71C5-4028-9FA3-A18C217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2340-2D85-4783-B09A-9AAC3DFF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0EDE-AC9A-43D6-94BE-5C1550A7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B33D-77D9-4C81-B2E9-41F4BAF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5CF83-765B-4F84-9017-DED9E14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A51-40D5-4F4D-A741-B5EF7E3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D9B0-2D00-41BC-B2E1-AB1C26B3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2614-7F9C-4704-85AA-C64CF584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4062-416F-445B-9FE3-9A49016C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C6E-99AF-4470-B174-1E900DA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053-8108-4286-91DC-FD65313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982-12FE-447A-B09C-43AE2DA9121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E41-7670-4D26-8281-9291EB59554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3E76-3C8A-49C1-AB3F-055B804FD07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F99-A22F-4665-A030-03D1BFB5034D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063-00F6-4F61-9F9E-21FA293BF4A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713-BDBE-4A73-9A01-1DC002F419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4E6-0F3C-46DD-915F-F454022867A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E9FA-7DBA-442A-BF45-05FE60078C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B6B-79AA-4FE7-B389-842E69F7A50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475F-B4F0-4FFB-8A53-B2784B3BD3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257-A2A0-4E90-A1E4-29FD3589EFC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7D8-D801-4050-8D27-6AB48A8045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152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119160" y="692280"/>
            <a:ext cx="1173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de dezembro/2017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1" descr=""/>
          <p:cNvPicPr/>
          <p:nvPr/>
        </p:nvPicPr>
        <p:blipFill>
          <a:blip r:embed="rId1"/>
          <a:stretch/>
        </p:blipFill>
        <p:spPr>
          <a:xfrm>
            <a:off x="0" y="1276200"/>
            <a:ext cx="12192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99880" y="692280"/>
            <a:ext cx="108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m 1" descr=""/>
          <p:cNvPicPr/>
          <p:nvPr/>
        </p:nvPicPr>
        <p:blipFill>
          <a:blip r:embed="rId1"/>
          <a:stretch/>
        </p:blipFill>
        <p:spPr>
          <a:xfrm>
            <a:off x="0" y="1297080"/>
            <a:ext cx="121921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34800" y="638172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1522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7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63520" y="6399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63520" y="692280"/>
            <a:ext cx="1144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1144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674640"/>
            <a:ext cx="12192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6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7 e Dezembro/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520" y="963720"/>
            <a:ext cx="12144600" cy="54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34800" y="692280"/>
            <a:ext cx="1080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10 a 2017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118260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1.365,26, na média de janeiro a dezembro de 2017, o que representou um crescimento de 11,6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3287880" y="5229000"/>
            <a:ext cx="327492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 flipH="1">
            <a:off x="7608960" y="2322360"/>
            <a:ext cx="3527280" cy="277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119160" y="1658880"/>
            <a:ext cx="1180944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52360" y="765000"/>
            <a:ext cx="1087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6, Novembro/2017, Dezembro/2017 e Acumulado no an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52360" y="646740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19844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" descr=""/>
          <p:cNvPicPr/>
          <p:nvPr/>
        </p:nvPicPr>
        <p:blipFill>
          <a:blip r:embed="rId1"/>
          <a:stretch/>
        </p:blipFill>
        <p:spPr>
          <a:xfrm>
            <a:off x="325440" y="1270080"/>
            <a:ext cx="11458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334800" y="69228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34800" y="641520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7 estimado de acordo com a Grade de Parâmetros da SPE/MF de 12/2017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115221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04920" y="692280"/>
            <a:ext cx="1104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 (2016 e 2017) – Em R$ milhões de dezembro/2017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11040" y="645804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4680" y="1268280"/>
            <a:ext cx="121921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6, Novembro e Dezembro de 2017 e Acumulado no ano (2016 e 2017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34800" y="6453360"/>
            <a:ext cx="30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4800" y="64119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2-05T12:49:17Z</dcterms:modified>
  <cp:revision>389</cp:revision>
  <dc:subject/>
  <dc:title>Demografia</dc:title>
</cp:coreProperties>
</file>